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7AE2-BF6F-4461-892F-E3CE2266B23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795A-4791-4355-987E-C1A254D2F0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16CA-6858-4EC8-8EA2-BA05EC373B9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C7A2-87A1-42EC-8A6A-9B9B64AB4D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3F7E-4D4F-4611-9E46-116BBD6B03C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51750-91BF-4E56-8770-43C79A36F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622A6-048F-49F7-8DC0-88A7328DC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363FF-D4CC-4850-9754-201516859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5445-430A-47C0-9025-CEBB51C2E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FFDDC-E95E-4D02-AC86-4598F2109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D057-2662-4FD7-95DB-B3E9767D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DF2B8-919E-43FC-A097-14651A806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05D17-247B-4ABF-B54C-31FE4A620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7A54-B29F-43A1-B647-5193FB87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F696-0141-492A-B92E-2A0950373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C7BCC-801C-4AFF-97E2-988678179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C37DD-D63F-4E83-BDE2-A59A0B0F6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123160" y="297180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Chapter</a:t>
            </a:r>
            <a:endParaRPr b="0" lang="en-US" sz="2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5"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3" name="Picture 8" descr="Pearson_Bound_White"/>
          <p:cNvPicPr/>
          <p:nvPr/>
        </p:nvPicPr>
        <p:blipFill>
          <a:blip r:embed="rId2"/>
          <a:stretch/>
        </p:blipFill>
        <p:spPr>
          <a:xfrm>
            <a:off x="7621560" y="6400800"/>
            <a:ext cx="1533600" cy="457200"/>
          </a:xfrm>
          <a:prstGeom prst="rect">
            <a:avLst/>
          </a:prstGeom>
          <a:ln w="0">
            <a:noFill/>
          </a:ln>
        </p:spPr>
      </p:pic>
      <p:pic>
        <p:nvPicPr>
          <p:cNvPr id="94" name="Picture 9" descr="Pearson_Strap_Bound_White"/>
          <p:cNvPicPr/>
          <p:nvPr/>
        </p:nvPicPr>
        <p:blipFill>
          <a:blip r:embed="rId3"/>
          <a:stretch/>
        </p:blipFill>
        <p:spPr>
          <a:xfrm>
            <a:off x="-3240" y="6400800"/>
            <a:ext cx="1766880" cy="457200"/>
          </a:xfrm>
          <a:prstGeom prst="rect">
            <a:avLst/>
          </a:prstGeom>
          <a:ln w="0">
            <a:noFill/>
          </a:ln>
        </p:spPr>
      </p:pic>
      <p:sp>
        <p:nvSpPr>
          <p:cNvPr id="9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9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8"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9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AC84-AA1C-45D8-B53D-7EC0211340B9}"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6"/>
          <p:cNvSpPr/>
          <p:nvPr/>
        </p:nvSpPr>
        <p:spPr>
          <a:xfrm>
            <a:off x="6766200" y="2558880"/>
            <a:ext cx="11408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13</a:t>
            </a:r>
            <a:endParaRPr b="0" lang="en-US" sz="6600" spc="-1" strike="noStrike">
              <a:solidFill>
                <a:srgbClr val="000000"/>
              </a:solidFill>
              <a:latin typeface="Arial"/>
            </a:endParaRPr>
          </a:p>
        </p:txBody>
      </p:sp>
      <p:sp>
        <p:nvSpPr>
          <p:cNvPr id="147" name="TextBox 1"/>
          <p:cNvSpPr/>
          <p:nvPr/>
        </p:nvSpPr>
        <p:spPr>
          <a:xfrm>
            <a:off x="4419720" y="3666960"/>
            <a:ext cx="449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urt Response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imate Partner Violenc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Witness Assistants</a:t>
            </a:r>
            <a:endParaRPr b="0" lang="en-US" sz="4000" spc="-1" strike="noStrike">
              <a:solidFill>
                <a:srgbClr val="ffffff"/>
              </a:solidFill>
              <a:latin typeface="Verdana"/>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ctim/Witness Assistants</a:t>
            </a:r>
            <a:endParaRPr b="0" lang="en-US" sz="28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rk for the survivor instead of the court.</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y or may not be specialists in domestic violence, but are experienced in the court process.</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ive payment from fines collected from people  convicted of criminal acts.</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tly accompany victims into court, track the cases, and provide updates to the survivor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 Privacy Protections</a:t>
            </a:r>
            <a:endParaRPr b="0" lang="en-US" sz="4000" spc="-1" strike="noStrike">
              <a:solidFill>
                <a:srgbClr val="ffffff"/>
              </a:solidFill>
              <a:latin typeface="Verdana"/>
            </a:endParaRPr>
          </a:p>
        </p:txBody>
      </p:sp>
      <p:sp>
        <p:nvSpPr>
          <p:cNvPr id="167"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tection order confidentiality: </a:t>
            </a:r>
            <a:r>
              <a:rPr b="0" lang="en-US" sz="2400" spc="-1" strike="noStrike">
                <a:solidFill>
                  <a:srgbClr val="000000"/>
                </a:solidFill>
                <a:latin typeface="Verdana"/>
              </a:rPr>
              <a:t>A survivor of IPV can request that their name, telephone number, and address not be made part of the public record when filing for a court order of protec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al information from a driver’s license may only be disclosed only to certain categories of requesters.</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 Privacy Protections</a:t>
            </a:r>
            <a:endParaRPr b="0" lang="en-US" sz="4000" spc="-1" strike="noStrike">
              <a:solidFill>
                <a:srgbClr val="ffffff"/>
              </a:solidFill>
              <a:latin typeface="Verdana"/>
            </a:endParaRPr>
          </a:p>
        </p:txBody>
      </p:sp>
      <p:sp>
        <p:nvSpPr>
          <p:cNvPr id="169"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cial Security Administration that allows a victim to change their social security numbe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operated </a:t>
            </a:r>
            <a:r>
              <a:rPr b="1" lang="en-US" sz="2400" spc="-1" strike="noStrike">
                <a:solidFill>
                  <a:srgbClr val="000000"/>
                </a:solidFill>
                <a:latin typeface="Verdana"/>
              </a:rPr>
              <a:t>Address Confidentiality Programs </a:t>
            </a:r>
            <a:r>
              <a:rPr b="0" lang="en-US" sz="2400" spc="-1" strike="noStrike">
                <a:solidFill>
                  <a:srgbClr val="000000"/>
                </a:solidFill>
                <a:latin typeface="Verdana"/>
              </a:rPr>
              <a:t>(ACPs) provide victims of domestic violence with a legal substitute address.</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ole of the Courts</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secution of domestic violence cases is no longer exceptional or rare.</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revalence of prosecution varies from one jurisdiction to another.</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urisdictions with specialized domestic violence prosecution programs typically have the highest arrest prosecution rate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arge number of domestic violence prosecutions are disposed of through plea bargains and sentencing negotiation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Prosecution Units</a:t>
            </a:r>
            <a:endParaRPr b="0" lang="en-US" sz="4000" spc="-1" strike="noStrike">
              <a:solidFill>
                <a:srgbClr val="ffffff"/>
              </a:solidFill>
              <a:latin typeface="Verdana"/>
            </a:endParaRPr>
          </a:p>
        </p:txBody>
      </p:sp>
      <p:sp>
        <p:nvSpPr>
          <p:cNvPr id="17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ized units are key to successful IPV prosecu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ter interagency collaboration between prosecutors, social service providers, victim advocates, and victims is one major benefit of these unit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ts contain attorneys and victim witness coordinators with special training and skills in obtaining evidence and prosecuting sexual predators and offenders who batte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specialized units are associated with expedited domestic violence dockets.</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urt Jurisdiction</a:t>
            </a:r>
            <a:endParaRPr b="0" lang="en-US" sz="4000" spc="-1" strike="noStrike">
              <a:solidFill>
                <a:srgbClr val="ffffff"/>
              </a:solidFill>
              <a:latin typeface="Verdana"/>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etwork of courts across the United States makes up the judicial system. </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risdiction in the scope and authority of each court.</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stitutional or statutory parameters within which judicial power may be exercised limit the court to a geographical area and to specific subject matter. </a:t>
            </a:r>
            <a:endParaRPr b="0" lang="en-US" sz="28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urt Jurisdiction</a:t>
            </a:r>
            <a:endParaRPr b="0" lang="en-US" sz="4000" spc="-1" strike="noStrike">
              <a:solidFill>
                <a:srgbClr val="ffffff"/>
              </a:solidFill>
              <a:latin typeface="Verdana"/>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t functions are similar from state to state, but the names used for the courts differ widely.</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s governing domestic relations belong in a body of law that is called civil law.</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contrast, criminal law codes are concerned with civil or private rights and remedies.</a:t>
            </a:r>
            <a:endParaRPr b="0" lang="en-US" sz="28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Versus Criminal Court</a:t>
            </a:r>
            <a:endParaRPr b="0" lang="en-US" sz="4000" spc="-1" strike="noStrike">
              <a:solidFill>
                <a:srgbClr val="ffffff"/>
              </a:solidFill>
              <a:latin typeface="Verdana"/>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riminal law violation can be tried in a court of general jurisdiction at the state level.</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 codes include provisions for civil protection orders when a domestic relationship exist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overlap of criminal law and civil law is inherent in family violence cases. </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ditionally, family courts of limited jurisdiction have handled relationship issues.</a:t>
            </a:r>
            <a:endParaRPr b="0" lang="en-US" sz="2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Versus Criminal Court</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result, a person can obtain a civil order of protection in a family or probate court in addition to filing a petition for protection in the lower criminal court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criminal offenses have been added to the jurisdiction of family court through state statut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urrent jurisdiction occurs when different courts are each authorized to deal with the same subject matter within a similar geographical area.</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uidelines on whether an offense belongs in family or criminal court vary from state to state. </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Versus Criminal Court</a:t>
            </a:r>
            <a:endParaRPr b="0" lang="en-US" sz="4000" spc="-1" strike="noStrike">
              <a:solidFill>
                <a:srgbClr val="ffffff"/>
              </a:solidFill>
              <a:latin typeface="Verdana"/>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s that lead to the decision of whether a case belongs in the family court or in a criminal court include:</a:t>
            </a:r>
            <a:endParaRPr b="0" lang="en-US" sz="28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of offense</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 of the victim to the offender</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 of the perpetrator</a:t>
            </a:r>
            <a:endParaRPr b="0" lang="en-US" sz="26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9" name=""/>
          <p:cNvSpPr txBox="1"/>
          <p:nvPr/>
        </p:nvSpPr>
        <p:spPr>
          <a:xfrm>
            <a:off x="457200" y="1600200"/>
            <a:ext cx="8229600" cy="4648320"/>
          </a:xfrm>
          <a:prstGeom prst="rect">
            <a:avLst/>
          </a:prstGeom>
          <a:noFill/>
          <a:ln w="0">
            <a:noFill/>
          </a:ln>
        </p:spPr>
        <p:txBody>
          <a:bodyPr anchor="t">
            <a:normAutofit fontScale="98000"/>
          </a:bodyPr>
          <a:p>
            <a:pPr marL="504000" indent="-50400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lain, through examples, the protections and resources available to domestic violence survivors.</a:t>
            </a:r>
            <a:endParaRPr b="0" lang="en-US" sz="2600" spc="-1" strike="noStrike">
              <a:solidFill>
                <a:srgbClr val="000000"/>
              </a:solidFill>
              <a:latin typeface="Verdana"/>
            </a:endParaRPr>
          </a:p>
          <a:p>
            <a:pPr marL="504000" indent="-50400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examples of trends and factors that have inspired court reform in cases of family violence.</a:t>
            </a:r>
            <a:endParaRPr b="0" lang="en-US" sz="2600" spc="-1" strike="noStrike">
              <a:solidFill>
                <a:srgbClr val="000000"/>
              </a:solidFill>
              <a:latin typeface="Verdana"/>
            </a:endParaRPr>
          </a:p>
          <a:p>
            <a:pPr marL="504000" indent="-50400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y the relevance of the integrated domestic violence court model.</a:t>
            </a:r>
            <a:endParaRPr b="0" lang="en-US" sz="2600" spc="-1" strike="noStrike">
              <a:solidFill>
                <a:srgbClr val="000000"/>
              </a:solidFill>
              <a:latin typeface="Verdana"/>
            </a:endParaRPr>
          </a:p>
          <a:p>
            <a:pPr marL="504000" indent="-50400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cribe domestic violence protection orders along with examples of available remedies allowed by the states.</a:t>
            </a:r>
            <a:endParaRPr b="0" lang="en-US" sz="2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ole of the Judge</a:t>
            </a:r>
            <a:endParaRPr b="0" lang="en-US" sz="4000" spc="-1" strike="noStrike">
              <a:solidFill>
                <a:srgbClr val="ffffff"/>
              </a:solidFill>
              <a:latin typeface="Verdana"/>
            </a:endParaRPr>
          </a:p>
        </p:txBody>
      </p:sp>
      <p:sp>
        <p:nvSpPr>
          <p:cNvPr id="185"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ole of the judge in cases concerning domestic or intimate partner violence is characterized by the court jurisdiction where the judge resid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judge that sits in a criminal court will hear domestic-violence-related crimes in addition to nondomestic-violence-related crim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judge plays  a pivotal role in the issuance of civil domestic violence restrain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 or her attitude and demeanor during the hearing helps ensure the likelihood of success of protection. </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SDV) Courts</a:t>
            </a:r>
            <a:endParaRPr b="0" lang="en-US" sz="4000" spc="-1" strike="noStrike">
              <a:solidFill>
                <a:srgbClr val="ffffff"/>
              </a:solidFill>
              <a:latin typeface="Verdana"/>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specialized courts, judges have greater resources available and staff trained in domestic violence issu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courts are designed to increase victims’ safety and hold defendants accountabl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urt is staffed by judges and utilizes partnerships with criminal justice and social service agenci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partment of Probation dedicates officers from the “intensive supervision program” to work on the intimate partner violence cases. </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SDV) Courts</a:t>
            </a:r>
            <a:endParaRPr b="0" lang="en-US" sz="4000" spc="-1" strike="noStrike">
              <a:solidFill>
                <a:srgbClr val="ffffff"/>
              </a:solidFill>
              <a:latin typeface="Verdana"/>
            </a:endParaRPr>
          </a:p>
        </p:txBody>
      </p:sp>
      <p:sp>
        <p:nvSpPr>
          <p:cNvPr id="18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nearly 300 courts nationwide that have special processing mechanisms for domestic violence cases.</a:t>
            </a:r>
            <a:endParaRPr b="0" lang="en-US" sz="24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enter for Court Innovation. (2008). Domestic violence. Retrieved from </a:t>
            </a: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www.courtinnovation.org/index.cfm?fuseaction=page.viewPage&amp;pageID=512&amp;documentTopicID=23</a:t>
            </a:r>
            <a:endParaRPr b="0" lang="en-US" sz="1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SDV) Courts</a:t>
            </a:r>
            <a:endParaRPr b="0" lang="en-US" sz="4000" spc="-1" strike="noStrike">
              <a:solidFill>
                <a:srgbClr val="ffffff"/>
              </a:solidFill>
              <a:latin typeface="Verdana"/>
            </a:endParaRPr>
          </a:p>
        </p:txBody>
      </p:sp>
      <p:sp>
        <p:nvSpPr>
          <p:cNvPr id="19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m </a:t>
            </a:r>
            <a:r>
              <a:rPr b="1" lang="en-US" sz="2400" spc="-1" strike="noStrike">
                <a:solidFill>
                  <a:srgbClr val="000000"/>
                </a:solidFill>
                <a:latin typeface="Verdana"/>
              </a:rPr>
              <a:t>domestic violence court </a:t>
            </a:r>
            <a:r>
              <a:rPr b="0" lang="en-US" sz="2400" spc="-1" strike="noStrike">
                <a:solidFill>
                  <a:srgbClr val="000000"/>
                </a:solidFill>
                <a:latin typeface="Verdana"/>
              </a:rPr>
              <a:t>refers to courts that assign judicial officers to hear a special domestic violence calendar, regardless of whether they hear those cases exclusively. </a:t>
            </a:r>
            <a:endParaRPr b="0" lang="en-US" sz="2400" spc="-1" strike="noStrike">
              <a:solidFill>
                <a:srgbClr val="000000"/>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erman, M. (2004). Domestic violence courts: Organization and procedure varies. </a:t>
            </a:r>
            <a:r>
              <a:rPr b="0" i="1" lang="en-US" sz="1000" spc="-1" strike="noStrike">
                <a:solidFill>
                  <a:srgbClr val="000000"/>
                </a:solidFill>
                <a:latin typeface="Verdana"/>
              </a:rPr>
              <a:t>Family Violence Forum, 3 </a:t>
            </a:r>
            <a:r>
              <a:rPr b="0" lang="en-US" sz="1000" spc="-1" strike="noStrike">
                <a:solidFill>
                  <a:srgbClr val="000000"/>
                </a:solidFill>
                <a:latin typeface="Verdana"/>
              </a:rPr>
              <a:t>(2), 8.</a:t>
            </a:r>
            <a:endParaRPr b="0" lang="en-US" sz="1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SDV) Courts</a:t>
            </a:r>
            <a:endParaRPr b="0" lang="en-US" sz="4000" spc="-1" strike="noStrike">
              <a:solidFill>
                <a:srgbClr val="ffffff"/>
              </a:solidFill>
              <a:latin typeface="Verdana"/>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h courts were developed with the realization that noninjury cases of domestic violence cases are often upstaged by “more serious crimes,” regardless of the potential for escalation into high injury or homicid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courts vary in their scope of jurisdiction, structure, and process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domestic violence courts have jurisdiction over the issuance of civil protection orders, but a few also have jurisdiction over criminal domestic violence cases.</a:t>
            </a:r>
            <a:endParaRPr b="0" lang="en-US" sz="24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erman, M. (2004). Domestic violence courts: Organization and procedure varies. </a:t>
            </a:r>
            <a:r>
              <a:rPr b="0" i="1" lang="en-US" sz="1000" spc="-1" strike="noStrike">
                <a:solidFill>
                  <a:srgbClr val="000000"/>
                </a:solidFill>
                <a:latin typeface="Verdana"/>
              </a:rPr>
              <a:t>Family Violence Forum, 3 </a:t>
            </a:r>
            <a:r>
              <a:rPr b="0" lang="en-US" sz="1000" spc="-1" strike="noStrike">
                <a:solidFill>
                  <a:srgbClr val="000000"/>
                </a:solidFill>
                <a:latin typeface="Verdana"/>
              </a:rPr>
              <a:t>(2), 8.</a:t>
            </a:r>
            <a:endParaRPr b="0" lang="en-US" sz="1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egrated Domestic Violence (IDV) Courts</a:t>
            </a:r>
            <a:endParaRPr b="0" lang="en-US" sz="4000" spc="-1" strike="noStrike">
              <a:solidFill>
                <a:srgbClr val="ffffff"/>
              </a:solidFill>
              <a:latin typeface="Verdana"/>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innovative model to address intimate partner violence</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judge handles criminal domestic violence cases and related family issues, including custody, visitation, and civil protection orders, in addition to matrimonial issue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approach seeks to handle all related cases pertaining to a single family where the underlying issue is IPV.</a:t>
            </a:r>
            <a:endParaRPr b="0" lang="en-US" sz="2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Protection Orders</a:t>
            </a:r>
            <a:endParaRPr b="0" lang="en-US" sz="4000" spc="-1" strike="noStrike">
              <a:solidFill>
                <a:srgbClr val="ffffff"/>
              </a:solidFill>
              <a:latin typeface="Verdana"/>
            </a:endParaRPr>
          </a:p>
        </p:txBody>
      </p:sp>
      <p:sp>
        <p:nvSpPr>
          <p:cNvPr id="197"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il recently, protective orders were restricted to protect crime victims and witnesses from harassment by defendant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vil protection orders are now available to adults in every stat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orders are generally referred to as restraining orders, since their intent is to restrain the perpetrator from further abusive behavior and to grant relief.</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vil restraining orders are an important tool in identifying and protecting domestic violence victims.</a:t>
            </a:r>
            <a:endParaRPr b="0" lang="en-US" sz="2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Protection Orders</a:t>
            </a:r>
            <a:endParaRPr b="0" lang="en-US" sz="4000" spc="-1" strike="noStrike">
              <a:solidFill>
                <a:srgbClr val="ffffff"/>
              </a:solidFill>
              <a:latin typeface="Verdana"/>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qualify for this type of order, an abuse must have occurred that places the victim in fear of imminent serious physical harm. </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ation of a civil protection order is a criminal offense and carries a penalty.</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vil protection orders are domestic relations restraining orders in which the court has issued a protection or restraining order designed to limit or eliminate contact between two or more individuals. </a:t>
            </a:r>
            <a:endParaRPr b="0" lang="en-US" sz="24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Protection Orders</a:t>
            </a:r>
            <a:endParaRPr b="0" lang="en-US" sz="4000" spc="-1" strike="noStrike">
              <a:solidFill>
                <a:srgbClr val="ffffff"/>
              </a:solidFill>
              <a:latin typeface="Verdana"/>
            </a:endParaRPr>
          </a:p>
        </p:txBody>
      </p:sp>
      <p:sp>
        <p:nvSpPr>
          <p:cNvPr id="201"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vil protection orders apply to individuals who are in a domestic relationship.</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valid order must be signed by a magistrate, a clerk, or a judge authorized to issue such order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contains the name of the person who is under the order as well as the name of the complainant or victim.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ttempt must be made to serve the order on the offender.</a:t>
            </a:r>
            <a:endParaRPr b="0" lang="en-US" sz="28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tterer Intervention Programs</a:t>
            </a:r>
            <a:endParaRPr b="0" lang="en-US" sz="4000" spc="-1" strike="noStrike">
              <a:solidFill>
                <a:srgbClr val="ffffff"/>
              </a:solidFill>
              <a:latin typeface="Verdana"/>
            </a:endParaRPr>
          </a:p>
        </p:txBody>
      </p:sp>
      <p:sp>
        <p:nvSpPr>
          <p:cNvPr id="20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dating offenders to attend a batterer treatment program is the most common court response to IPV.</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out 90% of these batterer intervention programs are based on the Power and Control Feminist Model.</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ebate on the effectiveness of batterer treatment programs is ongoing.</a:t>
            </a:r>
            <a:endParaRPr b="0" lang="en-US" sz="28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stin, J., &amp; Dankwort, J. (1998). </a:t>
            </a:r>
            <a:r>
              <a:rPr b="0" i="1" lang="en-US" sz="1000" spc="-1" strike="noStrike">
                <a:solidFill>
                  <a:srgbClr val="000000"/>
                </a:solidFill>
                <a:latin typeface="Verdana"/>
              </a:rPr>
              <a:t>A review of standards for batterer intervention programs</a:t>
            </a:r>
            <a:r>
              <a:rPr b="0" lang="en-US" sz="1000" spc="-1" strike="noStrike">
                <a:solidFill>
                  <a:srgbClr val="000000"/>
                </a:solidFill>
                <a:latin typeface="Verdana"/>
              </a:rPr>
              <a:t>. Washington, DC: </a:t>
            </a:r>
            <a:r>
              <a:rPr b="0" lang="fr-FR" sz="1000" spc="-1" strike="noStrike">
                <a:solidFill>
                  <a:srgbClr val="000000"/>
                </a:solidFill>
                <a:latin typeface="Verdana"/>
              </a:rPr>
              <a:t>National Resource Center on Domestic Violence.</a:t>
            </a:r>
            <a:endParaRPr b="0" lang="en-US" sz="1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roduction</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the recent criminalization of domestic violence, the lines between criminal and civil actions are blurring.</a:t>
            </a:r>
            <a:endParaRPr b="0" lang="en-US" sz="2800" spc="-1" strike="noStrike">
              <a:solidFill>
                <a:srgbClr val="000000"/>
              </a:solidFill>
              <a:latin typeface="Verdana"/>
            </a:endParaRPr>
          </a:p>
          <a:p>
            <a:pPr marL="343080" indent="-343080">
              <a:spcBef>
                <a:spcPts val="2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ion and relief from domestic violence are both criminal and civil in nature. </a:t>
            </a:r>
            <a:endParaRPr b="0" lang="en-US" sz="2800" spc="-1" strike="noStrike">
              <a:solidFill>
                <a:srgbClr val="000000"/>
              </a:solidFill>
              <a:latin typeface="Verdana"/>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mestic law is now located within both federal and state court jurisdictions.</a:t>
            </a:r>
            <a:endParaRPr b="0" lang="en-US" sz="28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tter Program Procedures for Male Perpetrators</a:t>
            </a:r>
            <a:endParaRPr b="0" lang="en-US" sz="4000" spc="-1" strike="noStrike">
              <a:solidFill>
                <a:srgbClr val="ffffff"/>
              </a:solidFill>
              <a:latin typeface="Verdana"/>
            </a:endParaRPr>
          </a:p>
        </p:txBody>
      </p:sp>
      <p:sp>
        <p:nvSpPr>
          <p:cNvPr id="205"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terer programs typically consist of five stages:</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ake and Assessment </a:t>
            </a:r>
            <a:r>
              <a:rPr b="0" lang="en-US" sz="2400" spc="-1" strike="noStrike">
                <a:solidFill>
                  <a:srgbClr val="000000"/>
                </a:solidFill>
                <a:latin typeface="Verdana"/>
              </a:rPr>
              <a:t>- The interviewer seeks information on the pattern and severity of the abuse toward current and past partners, children, and other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ientation</a:t>
            </a:r>
            <a:r>
              <a:rPr b="0" lang="en-US" sz="2400" spc="-1" strike="noStrike">
                <a:solidFill>
                  <a:srgbClr val="000000"/>
                </a:solidFill>
                <a:latin typeface="Verdana"/>
              </a:rPr>
              <a:t> - New clients meet and are told the rules and goals of the program. Counselors attempt to develop a rapport with the participants.</a:t>
            </a:r>
            <a:endParaRPr b="0" lang="en-US" sz="2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tter Program Procedures For Male Perpetrators</a:t>
            </a:r>
            <a:endParaRPr b="0" lang="en-US" sz="4000" spc="-1" strike="noStrike">
              <a:solidFill>
                <a:srgbClr val="ffffff"/>
              </a:solidFill>
              <a:latin typeface="Verdana"/>
            </a:endParaRPr>
          </a:p>
        </p:txBody>
      </p:sp>
      <p:sp>
        <p:nvSpPr>
          <p:cNvPr id="207"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ictim Orientation </a:t>
            </a:r>
            <a:r>
              <a:rPr b="0" lang="en-US" sz="2400" spc="-1" strike="noStrike">
                <a:solidFill>
                  <a:srgbClr val="000000"/>
                </a:solidFill>
                <a:latin typeface="Verdana"/>
              </a:rPr>
              <a:t>- An opportunity for the person who was battered to meet with the staff.</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gram</a:t>
            </a:r>
            <a:r>
              <a:rPr b="0" lang="en-US" sz="2400" spc="-1" strike="noStrike">
                <a:solidFill>
                  <a:srgbClr val="000000"/>
                </a:solidFill>
                <a:latin typeface="Verdana"/>
              </a:rPr>
              <a:t> - Education on power and control issues and the development of critical-thinking skills are emphasized to help batterers understand and change their behavior.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ding the Program </a:t>
            </a:r>
            <a:r>
              <a:rPr b="0" lang="en-US" sz="2400" spc="-1" strike="noStrike">
                <a:solidFill>
                  <a:srgbClr val="000000"/>
                </a:solidFill>
                <a:latin typeface="Verdana"/>
              </a:rPr>
              <a:t>- Successful completion of the program may involve an exit project, such as a letter on how the client was affected by the proces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n Program Interventions Stop Battering?</a:t>
            </a:r>
            <a:endParaRPr b="0" lang="en-US" sz="4000" spc="-1" strike="noStrike">
              <a:solidFill>
                <a:srgbClr val="ffffff"/>
              </a:solidFill>
              <a:latin typeface="Verdana"/>
            </a:endParaRPr>
          </a:p>
        </p:txBody>
      </p:sp>
      <p:sp>
        <p:nvSpPr>
          <p:cNvPr id="209" name=""/>
          <p:cNvSpPr txBox="1"/>
          <p:nvPr/>
        </p:nvSpPr>
        <p:spPr>
          <a:xfrm>
            <a:off x="457200" y="1599840"/>
            <a:ext cx="8229600" cy="472428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ferral to batterer treatment programs is becoming the usual procedure for the court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ions of batterer programs have yielded inconsistent result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modest treatment effect with a minimal reduction in recidivism has been noted.</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grams, by themselves, are not likely to protect most victims or new intimate partners from further harm from higher-risk abusers.</a:t>
            </a:r>
            <a:endParaRPr b="0" lang="en-US" sz="26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lein, A. (2008). </a:t>
            </a:r>
            <a:r>
              <a:rPr b="0" i="1" lang="en-US" sz="1000" spc="-1" strike="noStrike">
                <a:solidFill>
                  <a:srgbClr val="000000"/>
                </a:solidFill>
                <a:latin typeface="Verdana"/>
              </a:rPr>
              <a:t>Practical implications of current domestic violence research. Part II: Prosecution</a:t>
            </a:r>
            <a:r>
              <a:rPr b="0" lang="en-US" sz="1000" spc="-1" strike="noStrike">
                <a:solidFill>
                  <a:srgbClr val="000000"/>
                </a:solidFill>
                <a:latin typeface="Verdana"/>
              </a:rPr>
              <a:t>. Washington, DC: National Institute of Justice.</a:t>
            </a:r>
            <a:endParaRPr b="0" lang="en-US" sz="10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n Program Interventions Stop Battering?</a:t>
            </a:r>
            <a:endParaRPr b="0" lang="en-US" sz="4000" spc="-1" strike="noStrike">
              <a:solidFill>
                <a:srgbClr val="ffffff"/>
              </a:solidFill>
              <a:latin typeface="Verdana"/>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he program (26 weeks compared to 8 weeks) has been the one component that may make a difference in deterring re-abuse.</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t-referred batterers traditionally have high rates of noncompletion, which may contribute to their ineffectivenes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roduction</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rts across the country have responded with specialized response calendars and procedure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many jurisdictions, integrated specialized courts attempt to streamline and standardize responses to domestic violence to enhance victim safety. </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secution staff has also become specialized, with vigorous response through enhanced training and multidisciplinary teams.</a:t>
            </a:r>
            <a:endParaRPr b="0" lang="en-US" sz="26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vocate Roles</a:t>
            </a:r>
            <a:endParaRPr b="0" lang="en-US" sz="4000" spc="-1" strike="noStrike">
              <a:solidFill>
                <a:srgbClr val="ffffff"/>
              </a:solidFill>
              <a:latin typeface="Verdana"/>
            </a:endParaRPr>
          </a:p>
        </p:txBody>
      </p:sp>
      <p:sp>
        <p:nvSpPr>
          <p:cNvPr id="155" name=""/>
          <p:cNvSpPr txBox="1"/>
          <p:nvPr/>
        </p:nvSpPr>
        <p:spPr>
          <a:xfrm>
            <a:off x="457200" y="1599840"/>
            <a:ext cx="8229600" cy="472428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vocates who may be indirectly involved with the court system help with victim support and issues of safety when the survivor accesses the court system. </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 advocates may be directly employed by the court and serve primarily to streamline access and coordinate services while dealing with safety issue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vocates assist intimate partner violence survivors with overcoming the obstacle of fear by providing information and support.</a:t>
            </a:r>
            <a:endParaRPr b="0" lang="en-US" sz="2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omestic Violence Advocates</a:t>
            </a:r>
            <a:endParaRPr b="0" lang="en-US" sz="4000" spc="-1" strike="noStrike">
              <a:solidFill>
                <a:srgbClr val="ffffff"/>
              </a:solidFill>
              <a:latin typeface="Verdana"/>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mestic violence advocates may assist survivors in applying for protections and resources.</a:t>
            </a:r>
            <a:endParaRPr b="0" lang="en-US" sz="26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s of resources:</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ctim services </a:t>
            </a:r>
            <a:r>
              <a:rPr b="0" i="1" lang="en-US" sz="2400" spc="-1" strike="noStrike">
                <a:solidFill>
                  <a:srgbClr val="000000"/>
                </a:solidFill>
                <a:latin typeface="Verdana"/>
              </a:rPr>
              <a:t>- </a:t>
            </a:r>
            <a:r>
              <a:rPr b="0" lang="en-US" sz="2400" spc="-1" strike="noStrike">
                <a:solidFill>
                  <a:srgbClr val="000000"/>
                </a:solidFill>
                <a:latin typeface="Verdana"/>
              </a:rPr>
              <a:t>hotlines, support groups, and counseling resources</a:t>
            </a:r>
            <a:endParaRPr b="0" lang="en-US" sz="2400" spc="-1" strike="noStrike">
              <a:solidFill>
                <a:srgbClr val="000000"/>
              </a:solidFill>
              <a:latin typeface="Verdana"/>
            </a:endParaRPr>
          </a:p>
          <a:p>
            <a:pPr lvl="1" marL="743040" indent="-285840">
              <a:spcBef>
                <a:spcPts val="70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ctim shelters -</a:t>
            </a:r>
            <a:r>
              <a:rPr b="1" i="1" lang="en-US" sz="2400" spc="-1" strike="noStrike">
                <a:solidFill>
                  <a:srgbClr val="000000"/>
                </a:solidFill>
                <a:latin typeface="Verdana"/>
              </a:rPr>
              <a:t> </a:t>
            </a:r>
            <a:r>
              <a:rPr b="0" lang="en-US" sz="2400" spc="-1" strike="noStrike">
                <a:solidFill>
                  <a:srgbClr val="000000"/>
                </a:solidFill>
                <a:latin typeface="Verdana"/>
              </a:rPr>
              <a:t>provide a temporary safe haven from abuse. Only a handful of shelters exist for battered heterosexual or homosexual men</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omestic Violence Advocates</a:t>
            </a:r>
            <a:endParaRPr b="0" lang="en-US" sz="4000" spc="-1" strike="noStrike">
              <a:solidFill>
                <a:srgbClr val="ffffff"/>
              </a:solidFill>
              <a:latin typeface="Verdana"/>
            </a:endParaRPr>
          </a:p>
        </p:txBody>
      </p:sp>
      <p:sp>
        <p:nvSpPr>
          <p:cNvPr id="159"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omestic violence advocate:</a:t>
            </a:r>
            <a:endParaRPr b="0" lang="en-US" sz="28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 an individual with experience and training related to domestic violence and/or crime victims’ advocacy.</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y be required to attend court hearings in support of victims.</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ds to hospital or law enforcement referrals to provide advocacy.</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ists with filing forms for domestic violence criminal and civil restraining orders.</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omestic Violence Advocates</a:t>
            </a:r>
            <a:endParaRPr b="0" lang="en-US" sz="4000" spc="-1" strike="noStrike">
              <a:solidFill>
                <a:srgbClr val="ffffff"/>
              </a:solidFill>
              <a:latin typeface="Verdana"/>
            </a:endParaRPr>
          </a:p>
        </p:txBody>
      </p:sp>
      <p:sp>
        <p:nvSpPr>
          <p:cNvPr id="161" name=""/>
          <p:cNvSpPr txBox="1"/>
          <p:nvPr/>
        </p:nvSpPr>
        <p:spPr>
          <a:xfrm>
            <a:off x="60948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mestic violence advocates provide:</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 advocacy services, such as notification of and accompaniment to court hearing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ion regarding the court system and domestic violenc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istance with obtaining protective orders.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with prosecutors, probation officers, and court personnel, as well as safety plann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urt Advocacy</a:t>
            </a:r>
            <a:endParaRPr b="0" lang="en-US" sz="4000" spc="-1" strike="noStrike">
              <a:solidFill>
                <a:srgbClr val="ffffff"/>
              </a:solidFill>
              <a:latin typeface="Verdana"/>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ts are an intimidating place for survivors of crime.</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ms necessary to request a civil or criminal protection or restraining order are confusing.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survivors cannot afford to hire an attorney to help with the proces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ictim/witness assistance program was developed to address these need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4:19:06Z</dcterms:modified>
  <cp:revision>133</cp:revision>
  <dc:subject/>
  <dc:title>Slide 1</dc:title>
</cp:coreProperties>
</file>